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1B6C-DB03-4B81-9C31-164F322D6BE0}" type="slidenum"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3CE1-2CBD-4950-8784-487FDD9583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29F-20D5-443A-9F94-F9038C4D0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B0C7-3F42-4B17-B55E-F84EA65890F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497120" cy="3373200"/>
          </a:xfrm>
          <a:prstGeom prst="rect">
            <a:avLst/>
          </a:prstGeom>
          <a:ln w="0">
            <a:noFill/>
          </a:ln>
        </p:spPr>
      </p:sp>
      <p:grpSp>
        <p:nvGrpSpPr>
          <p:cNvPr id="252" name="Group 3"/>
          <p:cNvGrpSpPr/>
          <p:nvPr/>
        </p:nvGrpSpPr>
        <p:grpSpPr>
          <a:xfrm>
            <a:off x="4564080" y="392040"/>
            <a:ext cx="1351080" cy="307080"/>
            <a:chOff x="4564080" y="392040"/>
            <a:chExt cx="1351080" cy="307080"/>
          </a:xfrm>
        </p:grpSpPr>
        <p:sp>
          <p:nvSpPr>
            <p:cNvPr id="253" name="Text Box 4"/>
            <p:cNvSpPr/>
            <p:nvPr/>
          </p:nvSpPr>
          <p:spPr>
            <a:xfrm>
              <a:off x="4694040" y="419760"/>
              <a:ext cx="984960" cy="24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4564080" y="3920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CA" sz="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HORT  VERSION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895-EB56-4FAB-A106-B7CDB531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63E-951E-488E-91B6-5A9929FD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079-2914-4877-BACF-3A13D667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1FA-7972-41BE-A5D1-9D5639A8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D70-F198-44AA-A820-BC74111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E1D-58BA-4B14-939F-CC8490BB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6AE-6A64-406D-B5AE-B65EC332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8E9-C6D7-49F0-8C79-B20F5E79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ED6-5273-4514-B932-29FE41FF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794-73DD-4A56-A587-D1B5820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EA7-0573-488B-A79E-B8CC5683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7A1-523D-4B40-946A-0ADDEBF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2019-0BAD-44FF-8746-98F57EEF5B2F}" type="slidenum">
              <a:rPr b="0" lang="pt-P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belt/v=2/SID=w/TID=I999_73/l=II/R=1/SS=i/OID=72c6b33a3c0b99d8/SIG=1mqh8cvuu/EXP=1130962749/*-http%3A//images.search.yahoo.com/search/images/view?back=http%3A%2F%2Fimages.search.yahoo.com%2Fsearch%2Fimages%3F_adv_prop%3Dimages%26imgsz%3Dall%26imgc%3D%26vf%3Dall%26va%3Dbelt%26fr%3Dslv1-%26ei%3DUTF-8&amp;h=364&amp;w=500&amp;imgcurl=www.magnet-eze.com.au%2Fimages%2FAll_Products_Gallery_500%2Fimages%2FLeather_Belt_Mens.jpg&amp;imgurl=www.magnet-eze.com.au%2Fimages%2FAll_Products_Gallery_500%2Fimages%2FLeather_Belt_Mens.jpg&amp;size=71.3kB&amp;name=Leather_Belt_Mens.jpg&amp;rcurl=http%3A%2F%2Fwww.magnet-eze.com.au%2Fimages%2FAll_Products_Gallery_500%2Fpages%2FLeather_Belt_Mens.htm&amp;rurl=http%3A%2F%2Fwww.magnet-eze.com.au%2Fimages%2FAll_Products_Gallery_500%2Fpages%2FLeather_Belt_Mens.htm&amp;p=belt&amp;type=jpeg&amp;no=1&amp;tt=495,964&amp;ei=UTF-8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psycho/v=2/SID=w/TID=I999_73/l=II/R=26/SS=i/OID=1ea34c79e2a63a96/SIG=1hh69r5lo/EXP=1131033274/*-http%3A//images.search.yahoo.com/search/images/view?back=http%3A%2F%2Fimages.search.yahoo.com%2Fsearch%2Fimages%3F_adv_prop%3Dimages%26imgsz%3Dall%26vf%3Dall%26va%3Dpsycho%26ei%3DUTF-8%26fr%3Dslv1-%26b%3D21&amp;h=243&amp;w=284&amp;imgcurl=www.kprf.ru%2Fclipart%2Fmisc%2Fpsycho.jpg&amp;imgurl=www.kprf.ru%2Fclipart%2Fmisc%2Fpsycho.jpg&amp;size=12.6kB&amp;name=psycho.jpg&amp;rcurl=http%3A%2F%2F44141.rapidforum.com%2Ftopic%3D100181254283%26startid%3D2&amp;rurl=http%3A%2F%2F44141.rapidforum.com%2Ftopic%3D100181254283%26startid%3D2&amp;p=psycho&amp;type=jpeg&amp;no=26&amp;tt=102,881&amp;ei=UTF-8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ч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475308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итивање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Burdon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или Pieron-Toulouse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те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00200"/>
          <a:ext cx="8075520" cy="2602080"/>
        </p:xfrm>
        <a:graphic>
          <a:graphicData uri="http://schemas.openxmlformats.org/drawingml/2006/table">
            <a:tbl>
              <a:tblPr/>
              <a:tblGrid>
                <a:gridCol w="1657080"/>
                <a:gridCol w="1656000"/>
                <a:gridCol w="2519280"/>
                <a:gridCol w="2243160"/>
              </a:tblGrid>
              <a:tr h="59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ем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ћ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ји п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ови расеја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НАЦ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ГИЛ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Т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на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пре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н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4"/>
          <p:cNvSpPr/>
          <p:nvPr/>
        </p:nvSpPr>
        <p:spPr>
          <a:xfrm>
            <a:off x="0" y="58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481640" y="56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imagen2"/>
          <p:cNvPicPr/>
          <p:nvPr/>
        </p:nvPicPr>
        <p:blipFill>
          <a:blip r:embed="rId1"/>
          <a:stretch/>
        </p:blipFill>
        <p:spPr>
          <a:xfrm>
            <a:off x="5292720" y="443700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а функција којом се п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препознавање информације, њене употребне вредности и ње као ц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НО САЗНАЊЕ –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а се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ју предмети и појаве објективне реал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 психо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ензорним центентр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оре моз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једи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ње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субјективна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реал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ИМ ИСКУ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ЕНГРАМИМА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agnosia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ГНОЗИЈЕ (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тактилне, симултане, анозогнозије, аутотопагно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ЛУЗИЈЕ (услед не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е, дејства афеката или навика, пареидол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ХАЛУЦИНАЦИЈЕ (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екстракампне, тактилне, ценест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густативне, олфактив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357720"/>
            <a:ext cx="1190880" cy="866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076720" y="4869000"/>
            <a:ext cx="12240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6443640" y="3789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6516720" y="530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4" descr="i_serpent"/>
          <p:cNvPicPr/>
          <p:nvPr/>
        </p:nvPicPr>
        <p:blipFill>
          <a:blip r:embed="rId3"/>
          <a:stretch/>
        </p:blipFill>
        <p:spPr>
          <a:xfrm>
            <a:off x="7308720" y="334476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_serpent"/>
          <p:cNvPicPr/>
          <p:nvPr/>
        </p:nvPicPr>
        <p:blipFill>
          <a:blip r:embed="rId4"/>
          <a:stretch/>
        </p:blipFill>
        <p:spPr>
          <a:xfrm>
            <a:off x="7308720" y="485784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Agnosia"/>
          <p:cNvPicPr/>
          <p:nvPr/>
        </p:nvPicPr>
        <p:blipFill>
          <a:blip r:embed="rId5"/>
          <a:stretch/>
        </p:blipFill>
        <p:spPr>
          <a:xfrm>
            <a:off x="6094440" y="1700280"/>
            <a:ext cx="1357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алуцинозни феномени – халуцинаторни садржај има одлике телесности, суд реалности – негат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сто претходе правим халуцин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склопу алкохолних психоза – алкохолна халуцин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ТНО: разлика између халуцинација, илузија и псеудохалуцин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066920" y="1596600"/>
            <a:ext cx="46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љењ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ЛО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 САЗН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 удовољењу био-социјалних и сазнајних потреб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спресиј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ГОВ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НКРЕТНО и АПСТРАКТНО (к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е мисаоних операција – анализа, синтеза, компарација, апстракција, конкретизација, индукција, дедукциј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реативно 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љењ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ој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к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форм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об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њење, предв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ње, инвенција – отк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тири фазе (“игра идеја”, инкубације, илуминација, верификациј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thinker%20rodin"/>
          <p:cNvPicPr/>
          <p:nvPr/>
        </p:nvPicPr>
        <p:blipFill>
          <a:blip r:embed="rId1"/>
          <a:stretch/>
        </p:blipFill>
        <p:spPr>
          <a:xfrm>
            <a:off x="755640" y="1773360"/>
            <a:ext cx="27432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280" y="1600200"/>
            <a:ext cx="47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форм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ат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 о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р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убрзан и успорен мисаони т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мут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расуло ми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нкохерентно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ерсев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вербиг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ологиз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сад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ецење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исил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thinking"/>
          <p:cNvPicPr/>
          <p:nvPr/>
        </p:nvPicPr>
        <p:blipFill>
          <a:blip r:embed="rId1"/>
          <a:stretch/>
        </p:blipFill>
        <p:spPr>
          <a:xfrm>
            <a:off x="5618160" y="1989000"/>
            <a:ext cx="2887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11280" y="1628640"/>
            <a:ext cx="2305080" cy="410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 НАСТА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уи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ерпрета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маг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Халуц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492360" y="1628640"/>
            <a:ext cx="2159280" cy="165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д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492360" y="3716280"/>
            <a:ext cx="2159280" cy="2521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АДР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ерсеку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Љубом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ротоман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кспанз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Депрес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Религиоз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36844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Go to fullsize image"/>
          <p:cNvPicPr/>
          <p:nvPr/>
        </p:nvPicPr>
        <p:blipFill>
          <a:blip r:embed="rId3"/>
          <a:stretch/>
        </p:blipFill>
        <p:spPr>
          <a:xfrm>
            <a:off x="6084720" y="3716280"/>
            <a:ext cx="20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АМЋ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686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својство индивидуе да одре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не информ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 (стварањем енграма у ЦНС-у), задрж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 и, по потреби, репродуку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азе памћењ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ње (упамћивањ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задржавање (ретенција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вање (рекогниција)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репродукција (екфорисање)                 Код посебних облика пам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ња (учење)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Ултракратко и  кратко претходе трајном памћењ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Трајно памћење -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ктивира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стсинаптичких структура које синтетиш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нуклеинске киселине (пре свега RNA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стају биохемијске промене у Н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енграми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5080" y="46533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ХАНИЗАМ  ПАМЋЕЊА У ФУНКЦИЈИ ВРЕМЕ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5280" y="4941720"/>
          <a:ext cx="4068720" cy="1098720"/>
        </p:xfrm>
        <a:graphic>
          <a:graphicData uri="http://schemas.openxmlformats.org/drawingml/2006/table">
            <a:tbl>
              <a:tblPr/>
              <a:tblGrid>
                <a:gridCol w="1828800"/>
                <a:gridCol w="97956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ФАЗЕ ПАМЋ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В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ХАНИЗ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лтра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 1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–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рај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хемиј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83"/>
          <p:cNvSpPr/>
          <p:nvPr/>
        </p:nvSpPr>
        <p:spPr>
          <a:xfrm flipH="1">
            <a:off x="4066920" y="3716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6" descr="1memory"/>
          <p:cNvPicPr/>
          <p:nvPr/>
        </p:nvPicPr>
        <p:blipFill>
          <a:blip r:embed="rId1"/>
          <a:stretch/>
        </p:blipFill>
        <p:spPr>
          <a:xfrm>
            <a:off x="6335640" y="1700280"/>
            <a:ext cx="280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Ч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560" y="1887120"/>
            <a:ext cx="8507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Учењ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активно упамћ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блик трајног памћ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нављање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х садржа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да се они упам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е учи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еханич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словљавањем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 моделу “покушај и грешка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LEARNING"/>
          <p:cNvPicPr/>
          <p:nvPr/>
        </p:nvPicPr>
        <p:blipFill>
          <a:blip r:embed="rId1"/>
          <a:stretch/>
        </p:blipFill>
        <p:spPr>
          <a:xfrm>
            <a:off x="5775480" y="3487680"/>
            <a:ext cx="2325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ћаји памћењ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татив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99cc"/>
                </a:solidFill>
                <a:latin typeface="Calibri"/>
              </a:rPr>
              <a:t>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о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ер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Ало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ил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реминисц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а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халуцинац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сеудологија фанта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Конфабул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ар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46840" y="3501000"/>
            <a:ext cx="484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ПАТОГНОМОНИ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Ч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НОСТ КВАЛИТАТИВНИХ ИЗМЕНА ПАМЋЕЊ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51280" y="3832200"/>
          <a:ext cx="5257800" cy="177012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  <a:gridCol w="151272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валитативне измене пам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ћ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ихопатo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e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Физио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ломнезије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реминисцен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амн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онфаб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логија фантасти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124"/>
          <p:cNvSpPr/>
          <p:nvPr/>
        </p:nvSpPr>
        <p:spPr>
          <a:xfrm>
            <a:off x="2411280" y="1844640"/>
            <a:ext cx="6481800" cy="1368360"/>
          </a:xfrm>
          <a:prstGeom prst="leftArrow">
            <a:avLst>
              <a:gd name="adj1" fmla="val 44250"/>
              <a:gd name="adj2" fmla="val 1184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градне, антероградне, конград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-антероградне, психог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ив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овека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9" descr="physiology_withpsychology_c"/>
          <p:cNvPicPr/>
          <p:nvPr/>
        </p:nvPicPr>
        <p:blipFill>
          <a:blip r:embed="rId1"/>
          <a:stretch/>
        </p:blipFill>
        <p:spPr>
          <a:xfrm>
            <a:off x="179280" y="2060640"/>
            <a:ext cx="1149480" cy="1150920"/>
          </a:xfrm>
          <a:prstGeom prst="rect">
            <a:avLst/>
          </a:prstGeom>
          <a:ln w="0">
            <a:noFill/>
          </a:ln>
        </p:spPr>
      </p:pic>
      <p:sp>
        <p:nvSpPr>
          <p:cNvPr id="53" name="Oval 20"/>
          <p:cNvSpPr/>
          <p:nvPr/>
        </p:nvSpPr>
        <p:spPr>
          <a:xfrm>
            <a:off x="4068720" y="1557360"/>
            <a:ext cx="4824360" cy="4680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ВЕ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21"/>
          <p:cNvSpPr/>
          <p:nvPr/>
        </p:nvSpPr>
        <p:spPr>
          <a:xfrm>
            <a:off x="5508720" y="1844640"/>
            <a:ext cx="1008000" cy="1008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њ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5221440" y="4797360"/>
            <a:ext cx="1079280" cy="10810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23"/>
          <p:cNvSpPr/>
          <p:nvPr/>
        </p:nvSpPr>
        <p:spPr>
          <a:xfrm>
            <a:off x="7524720" y="4076640"/>
            <a:ext cx="107964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мо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732720" y="1916280"/>
            <a:ext cx="1008000" cy="10810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го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4427640" y="2637000"/>
            <a:ext cx="1008000" cy="1079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О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36"/>
          <p:cNvSpPr/>
          <p:nvPr/>
        </p:nvSpPr>
        <p:spPr>
          <a:xfrm>
            <a:off x="7667640" y="2924280"/>
            <a:ext cx="934920" cy="936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Вољ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6516720" y="4941720"/>
            <a:ext cx="1224000" cy="10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Интелигенц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8"/>
          <p:cNvSpPr/>
          <p:nvPr/>
        </p:nvSpPr>
        <p:spPr>
          <a:xfrm>
            <a:off x="4356000" y="3933720"/>
            <a:ext cx="1008000" cy="1008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М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ш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љењ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41"/>
          <p:cNvSpPr/>
          <p:nvPr/>
        </p:nvSpPr>
        <p:spPr>
          <a:xfrm>
            <a:off x="1692360" y="3068640"/>
            <a:ext cx="29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pt-PT" sz="96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3" descr="psychology1"/>
          <p:cNvPicPr/>
          <p:nvPr/>
        </p:nvPicPr>
        <p:blipFill>
          <a:blip r:embed="rId2"/>
          <a:stretch/>
        </p:blipFill>
        <p:spPr>
          <a:xfrm>
            <a:off x="179280" y="3500280"/>
            <a:ext cx="115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5" descr="Psychology_BSc"/>
          <p:cNvPicPr/>
          <p:nvPr/>
        </p:nvPicPr>
        <p:blipFill>
          <a:blip r:embed="rId3"/>
          <a:stretch/>
        </p:blipFill>
        <p:spPr>
          <a:xfrm>
            <a:off x="179280" y="5011560"/>
            <a:ext cx="1152720" cy="1297080"/>
          </a:xfrm>
          <a:prstGeom prst="rect">
            <a:avLst/>
          </a:prstGeom>
          <a:ln w="0">
            <a:noFill/>
          </a:ln>
        </p:spPr>
      </p:pic>
      <p:sp>
        <p:nvSpPr>
          <p:cNvPr id="65" name="Line 49"/>
          <p:cNvSpPr/>
          <p:nvPr/>
        </p:nvSpPr>
        <p:spPr>
          <a:xfrm>
            <a:off x="147636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1476360" y="630864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  <a:ea typeface="宋体"/>
              </a:rPr>
              <a:t>ИНТЕЛИГЕНЦИЈА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С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особност ув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ања односа из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у ствари и појав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собност решавања нових проблема и сналажења у новим ситуац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тел: “Интелигенција је способност учења, мишљења и прилаг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вања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пирман: “Интелигенцију чини један основни, »G« и висе специфичних фактора, »S«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Торндјак: “Поједине специфичности чине глобалну интелектуалну способност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итања егземинатора за процену интелигенције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ндивидуал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ријентири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спитаниково животно доба, степен обр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вања и социјални стату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ватификује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се 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количником интелигенције: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QI= УМНИ УЗРАСТ/ХРОНОЛО</a:t>
            </a:r>
            <a:r>
              <a:rPr b="1" lang="en-US" sz="1800" spc="-1" strike="noStrike">
                <a:solidFill>
                  <a:srgbClr val="800080"/>
                </a:solidFill>
                <a:latin typeface="Calibri"/>
                <a:ea typeface="Tahoma"/>
              </a:rPr>
              <a:t>ШКИ УЗРАСТ </a:t>
            </a: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ДЕФИЦИТИ ИНТЕЛИГЕНЦИЈЕ: </a:t>
            </a:r>
            <a:br>
              <a:rPr sz="2800"/>
            </a:b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МЕНТАЛНЕ РЕТАРДАЦИЈЕ И ДЕМ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Француски психијатар Esquiro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Дементном човеку је ускра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ено добро које је некада имао – он је богаташ који је осиромашио, а олигофрен  одувек живи у сиромаштву – он никада није био богат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2826360"/>
            <a:ext cx="20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НТАЛНЕ РЕТАРДАЦИЈ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484360" y="3429000"/>
          <a:ext cx="3643560" cy="1555920"/>
        </p:xfrm>
        <a:graphic>
          <a:graphicData uri="http://schemas.openxmlformats.org/drawingml/2006/table">
            <a:tbl>
              <a:tblPr/>
              <a:tblGrid>
                <a:gridCol w="1822680"/>
                <a:gridCol w="18208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Степен менталне ретард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оефицијент интелигенције (Q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Л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50 до 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мер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35 до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е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ш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20 до 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Дуб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спод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43"/>
          <p:cNvSpPr/>
          <p:nvPr/>
        </p:nvSpPr>
        <p:spPr>
          <a:xfrm>
            <a:off x="2556000" y="5234040"/>
            <a:ext cx="342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ИСПИТИВАЊЕ интелектуалног дефицит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. Анализа говор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. “Мали клинички тест интелигенције”,  оцењује информисаност, нумеричка спретност, способност апстрактног мишљења …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ум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м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21160" y="1538280"/>
            <a:ext cx="1619280" cy="3070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Нормал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8480" y="6471360"/>
            <a:ext cx="3832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хттп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://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алзхеимерс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орг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ук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Сајту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ј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приступљено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фебруара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2009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годин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8480" y="6022800"/>
            <a:ext cx="7859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лцхајмер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скулар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ултипле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клероз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br>
              <a:rPr sz="1200"/>
            </a:b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аркинсон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ронтотемпорал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Левијевим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телим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088800" y="2330280"/>
            <a:ext cx="2512440" cy="4093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ba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Шт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вд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огађ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6" name="AutoShape 7"/>
          <p:cNvCxnSpPr>
            <a:stCxn id="182" idx="2"/>
            <a:endCxn id="185" idx="0"/>
          </p:cNvCxnSpPr>
          <p:nvPr/>
        </p:nvCxnSpPr>
        <p:spPr>
          <a:xfrm>
            <a:off x="4330440" y="1852200"/>
            <a:ext cx="14760" cy="47844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87" name="Rectangle 8"/>
          <p:cNvSpPr/>
          <p:nvPr/>
        </p:nvSpPr>
        <p:spPr>
          <a:xfrm>
            <a:off x="631800" y="5427720"/>
            <a:ext cx="10731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Бла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857240" y="5427720"/>
            <a:ext cx="1073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403152"/>
                </a:solidFill>
                <a:latin typeface="Tahoma"/>
                <a:ea typeface="Arial"/>
              </a:rPr>
              <a:t>Умере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76560" y="5427720"/>
            <a:ext cx="2503440" cy="520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Узнапредовали</a:t>
            </a:r>
            <a:r>
              <a:rPr b="1" lang="hr-HR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стадиј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77624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12"/>
          <p:cNvCxnSpPr>
            <a:stCxn id="185" idx="2"/>
            <a:endCxn id="192" idx="0"/>
          </p:cNvCxnSpPr>
          <p:nvPr/>
        </p:nvCxnSpPr>
        <p:spPr>
          <a:xfrm flipH="1">
            <a:off x="4330080" y="2739960"/>
            <a:ext cx="14760" cy="4788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3" name="Rectangle 13"/>
          <p:cNvSpPr/>
          <p:nvPr/>
        </p:nvSpPr>
        <p:spPr>
          <a:xfrm>
            <a:off x="566100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4" name="AutoShape 14"/>
          <p:cNvCxnSpPr>
            <a:stCxn id="192" idx="2"/>
            <a:endCxn id="190" idx="0"/>
          </p:cNvCxnSpPr>
          <p:nvPr/>
        </p:nvCxnSpPr>
        <p:spPr>
          <a:xfrm rot="5400000">
            <a:off x="3031920" y="2955960"/>
            <a:ext cx="660600" cy="19375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5" name="AutoShape 15"/>
          <p:cNvCxnSpPr>
            <a:stCxn id="192" idx="2"/>
            <a:endCxn id="193" idx="0"/>
          </p:cNvCxnSpPr>
          <p:nvPr/>
        </p:nvCxnSpPr>
        <p:spPr>
          <a:xfrm flipH="1" rot="16200000">
            <a:off x="4974480" y="2950200"/>
            <a:ext cx="660600" cy="19483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6" name="Rectangle 16"/>
          <p:cNvSpPr/>
          <p:nvPr/>
        </p:nvSpPr>
        <p:spPr>
          <a:xfrm>
            <a:off x="3713040" y="4254480"/>
            <a:ext cx="1290600" cy="91224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Мешов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AutoShape 17"/>
          <p:cNvCxnSpPr>
            <a:stCxn id="192" idx="2"/>
            <a:endCxn id="196" idx="0"/>
          </p:cNvCxnSpPr>
          <p:nvPr/>
        </p:nvCxnSpPr>
        <p:spPr>
          <a:xfrm>
            <a:off x="4330440" y="3594240"/>
            <a:ext cx="29160" cy="660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8" name="AutoShape 18"/>
          <p:cNvCxnSpPr>
            <a:stCxn id="190" idx="2"/>
            <a:endCxn id="187" idx="0"/>
          </p:cNvCxnSpPr>
          <p:nvPr/>
        </p:nvCxnSpPr>
        <p:spPr>
          <a:xfrm rot="5400000">
            <a:off x="1532160" y="4566600"/>
            <a:ext cx="497520" cy="1226160"/>
          </a:xfrm>
          <a:prstGeom prst="bentConnector3">
            <a:avLst>
              <a:gd name="adj1" fmla="val 49818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9" name="AutoShape 19"/>
          <p:cNvCxnSpPr>
            <a:stCxn id="190" idx="2"/>
            <a:endCxn id="189" idx="0"/>
          </p:cNvCxnSpPr>
          <p:nvPr/>
        </p:nvCxnSpPr>
        <p:spPr>
          <a:xfrm flipH="1" rot="16200000">
            <a:off x="3112200" y="4211640"/>
            <a:ext cx="497520" cy="1935720"/>
          </a:xfrm>
          <a:prstGeom prst="bentConnector3">
            <a:avLst>
              <a:gd name="adj1" fmla="val 49963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200" name="AutoShape 20"/>
          <p:cNvCxnSpPr>
            <a:stCxn id="190" idx="2"/>
            <a:endCxn id="188" idx="0"/>
          </p:cNvCxnSpPr>
          <p:nvPr/>
        </p:nvCxnSpPr>
        <p:spPr>
          <a:xfrm>
            <a:off x="2393640" y="4930920"/>
            <a:ext cx="1080" cy="49752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2" name="Rectangle 21"/>
          <p:cNvSpPr/>
          <p:nvPr/>
        </p:nvSpPr>
        <p:spPr>
          <a:xfrm>
            <a:off x="3521160" y="3218040"/>
            <a:ext cx="1619280" cy="3682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6440" y="306216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7799400" y="306216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7156440" y="344664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7799400" y="344664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7068960" y="2976480"/>
            <a:ext cx="1419480" cy="370080"/>
          </a:xfrm>
          <a:prstGeom prst="rect">
            <a:avLst/>
          </a:prstGeom>
          <a:noFill/>
          <a:ln w="19080">
            <a:solidFill>
              <a:srgbClr val="91bad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7371720" y="2616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ст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7" name="AutoShape 28"/>
          <p:cNvCxnSpPr>
            <a:stCxn id="192" idx="3"/>
            <a:endCxn id="205" idx="1"/>
          </p:cNvCxnSpPr>
          <p:nvPr/>
        </p:nvCxnSpPr>
        <p:spPr>
          <a:xfrm flipV="1">
            <a:off x="5140080" y="3160080"/>
            <a:ext cx="1929240" cy="246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МОЦИЈЕ (lat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emotio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= узбу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ње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специфичан,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убјективни однос човека према најразли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итијим објект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његовог спољ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г и унутарњег св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Примери  емоција,  емоционалних реакција: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радост, жалост, бес, страх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љубав, усхићење, понос, симпатија, брига, злоба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авист, мржња, стид, понижење ит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Анатомско седиште емоционалног живота чове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лимбички 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поталамус (садржи готове обрасце понашања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тесној вези са хипофизом и вегетативним нервним систем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бог анатомофизиоло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ког супстрата (укљ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 кортикалне ефекте)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емоције се свесно доживљавају, али и манифестују телесним еквивалентима (мимика, гестови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вегетативне реакциј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ва облика манифестација: 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расположења и аф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limbic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ење – дуготрајно, релативно трајно и равномерно стање емо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 – краткотрајно, интензивно стање осећања, праћено видљивим телесним манифест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и: страх, бес, узбуђење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лесне манифестације: укочен поглед, подрхтавање, бледило лица, неправилан говор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ћаји емо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нтитативни (од  емоција здравих се разликују интензитетом)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литативни  феномени (типични за менталне поремећај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АНТ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уфор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родужен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лабил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фективна амбиваленц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Л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рамим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аратим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фект емоционалног од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безосећај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толошк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цена расположења и аф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невербел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орук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ацијента (соматске манифестациј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приме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одр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метод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(Јунгов тест асоцијација, а за потиснуте емотивне садржаје: психоанализа, Роршахове пројективне технике…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43280" y="1700280"/>
          <a:ext cx="4388040" cy="2292120"/>
        </p:xfrm>
        <a:graphic>
          <a:graphicData uri="http://schemas.openxmlformats.org/drawingml/2006/table">
            <a:tbl>
              <a:tblPr/>
              <a:tblGrid>
                <a:gridCol w="2372040"/>
                <a:gridCol w="201600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Психопатолошки феном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Ментални 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м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т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фект емоционалног од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Емоционална (осећајна) безосећај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прес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толошки а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оремецај личност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сх. имнене  код  е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7"/>
          <p:cNvSpPr/>
          <p:nvPr/>
        </p:nvSpPr>
        <p:spPr>
          <a:xfrm>
            <a:off x="5940360" y="551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8"/>
          <p:cNvSpPr/>
          <p:nvPr/>
        </p:nvSpPr>
        <p:spPr>
          <a:xfrm flipV="1">
            <a:off x="6012000" y="4365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89"/>
          <p:cNvSpPr/>
          <p:nvPr/>
        </p:nvSpPr>
        <p:spPr>
          <a:xfrm>
            <a:off x="6012000" y="4437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0"/>
          <p:cNvSpPr/>
          <p:nvPr/>
        </p:nvSpPr>
        <p:spPr>
          <a:xfrm>
            <a:off x="4500720" y="4292640"/>
            <a:ext cx="1439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4f81bd"/>
                </a:solidFill>
                <a:latin typeface="Tahoma"/>
              </a:rPr>
              <a:t>Хипер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Еу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66ff"/>
                </a:solidFill>
                <a:latin typeface="Tahoma"/>
              </a:rPr>
              <a:t>Хипо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1"/>
          <p:cNvSpPr/>
          <p:nvPr/>
        </p:nvSpPr>
        <p:spPr>
          <a:xfrm>
            <a:off x="6012000" y="5013360"/>
            <a:ext cx="12967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93"/>
          <p:cNvSpPr/>
          <p:nvPr/>
        </p:nvSpPr>
        <p:spPr>
          <a:xfrm>
            <a:off x="7308720" y="501336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94"/>
          <p:cNvSpPr/>
          <p:nvPr/>
        </p:nvSpPr>
        <p:spPr>
          <a:xfrm>
            <a:off x="7812000" y="6093000"/>
            <a:ext cx="1008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5"/>
          <p:cNvSpPr/>
          <p:nvPr/>
        </p:nvSpPr>
        <p:spPr>
          <a:xfrm>
            <a:off x="7380360" y="4724280"/>
            <a:ext cx="1476360" cy="576360"/>
          </a:xfrm>
          <a:prstGeom prst="leftArrowCallout">
            <a:avLst>
              <a:gd name="adj1" fmla="val 25002"/>
              <a:gd name="adj2" fmla="val 25000"/>
              <a:gd name="adj3" fmla="val 42692"/>
              <a:gd name="adj4" fmla="val 666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Еуфор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Депрес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96"/>
          <p:cNvSpPr/>
          <p:nvPr/>
        </p:nvSpPr>
        <p:spPr>
          <a:xfrm>
            <a:off x="6300720" y="5805360"/>
            <a:ext cx="1295640" cy="576360"/>
          </a:xfrm>
          <a:prstGeom prst="rightArrowCallout">
            <a:avLst>
              <a:gd name="adj1" fmla="val 25002"/>
              <a:gd name="adj2" fmla="val 25000"/>
              <a:gd name="adj3" fmla="val 37466"/>
              <a:gd name="adj4" fmla="val 6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Апат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</a:rPr>
              <a:t>НАГОНИ И МО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агон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а тежња особе з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м понашање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иљ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е потреба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енергетска категорија,  кад је усмерена н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 циљ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Биолошки мотиви (нагони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енаучени,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зведени мотив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аучени (соци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лн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стикти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биол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ких потреб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вање: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по типу аутоматизам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разли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од наго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агон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афективни процес при испољавању инстинктивне рад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вит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и социј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ВИТАЛНИ  НАГ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(служе вит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1. нагон самоoдржања (за животом и исхраном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нагон одржања врсте (сексуални и родитељс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ОЦИЈАЛНИ  НАГОНИ – МОТИВИ (сл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оциј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1. афилијативни моти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мотив за положајем у друшт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3. мотив сазн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4. мотив самоптв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5. алтруистички моти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Pieta"/>
          <p:cNvPicPr/>
          <p:nvPr/>
        </p:nvPicPr>
        <p:blipFill>
          <a:blip r:embed="rId1"/>
          <a:stretch/>
        </p:blipFill>
        <p:spPr>
          <a:xfrm>
            <a:off x="5435640" y="4221000"/>
            <a:ext cx="25192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4920" y="155736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. ПОРЕМЕЋАЈИ  НАГОНА ЗА ЖИВЉЕЊЕ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јачање (хиперхормија)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снижење до суицида, предфаз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суицидална иде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денциј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та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е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РЕМЕЋАЈИ НАГОНА ЗА ИСХРАНОМ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TAT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ВНИ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            КВАЛИТАТИВ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норексија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опрофагиј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булимија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нтроп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вер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ја    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кр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лифaгијa                            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вучјa глa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orexia_22"/>
          <p:cNvPicPr/>
          <p:nvPr/>
        </p:nvPicPr>
        <p:blipFill>
          <a:blip r:embed="rId1"/>
          <a:stretch/>
        </p:blipFill>
        <p:spPr>
          <a:xfrm>
            <a:off x="684360" y="2773440"/>
            <a:ext cx="2493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. ПОРЕМЕЋАЈИ  СЕКСУАЛНОГ НАГОНА (квантитативни и квалитативн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НТИТАТИВНИ ПОРЕМЕЋАЈИ СЕКСУАЛНОГ НАГ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вишење сексуалног нагона (сатиријаза, нинфоманиј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еротизам (хипоеротиза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оргаз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импотен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jaculatio prec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ЛИТАТИВНИ ПОРЕМЕЋАЈИ СЕКСУАЛНОГ НАГОНА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4336920"/>
          <a:ext cx="5616360" cy="244980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Н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 патолошки објек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ПЕР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настран начин задовољст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арц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бисексуал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геронт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зоофил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екр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хомосексуалност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специфичн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мастурба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ераст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егзибицион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воајер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одо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фетиш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адизам и мазох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трансветитизам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и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татроп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41" descr="Homosexuality"/>
          <p:cNvPicPr/>
          <p:nvPr/>
        </p:nvPicPr>
        <p:blipFill>
          <a:blip r:embed="rId1"/>
          <a:stretch/>
        </p:blipFill>
        <p:spPr>
          <a:xfrm>
            <a:off x="6516720" y="2133720"/>
            <a:ext cx="2433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700280"/>
            <a:ext cx="7777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сазнање о свеукупном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љавању у датом тренут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гратив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а фун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актеристике: континуитет и некомуникатив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б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и физ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смисл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степен б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Појам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РЕДМЕТ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и СВЕСТ САМОГ С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психологиј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доживљај реал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4. ПОРЕМЕЋАЈ СОЦИЈАЛНИХ МО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похорм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индром (схизофренија, депресиј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снижење свих социјалних мотив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афилијативни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тиви самопотв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вања, сазнања, аутоафирмације, р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уро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осо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роше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енергије на интрапсихичке конфлик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снижење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тисоција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оремећај лиц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толог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оги не сматрају посебном психичком функц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рен у снази нагонског живо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ун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дносно, особина) св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ергија коју  свесно Ја улаже или у реализацију или у кочење, одлагање, одбацивање сопствене жељ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ње: вољне и невољн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в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лабост вољ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“губитак слободног вољног одлучивања”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од  квалитативн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тећењ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вести, снаж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продукција психотичност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у болестима зависности (психоактивне супстанц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вантитативне измен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воље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слабост воље) и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а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губитак воље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д оболелих од депресије и схизофрен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ролазна хипобулија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манифестација замора, несанице, интоксикац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угестиб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некритично прихватање ставова друг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Доц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послушност)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екстремна сугестибилност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ајт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и облик сугестибилности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утомат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послушнос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Импулзив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моторних радњи,  којима осо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реагује одмах након стимулуса (који могу бити минорни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ез обраде информације, практично уз изостанак вољ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Могу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извор хетероагрес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ататони синдром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психомоторних актив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слабљења вољног утицаја 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онашање оболеле особ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адрж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хипо и хиперкинетске елемен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кататони ступор, каталепсиј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еотипија држања, пасивни негативизам и ехо фено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ер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(кататона помам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отипија понашања, активни негативизам, манириз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изарност, стереотипија гов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Catatonic"/>
          <p:cNvPicPr/>
          <p:nvPr/>
        </p:nvPicPr>
        <p:blipFill>
          <a:blip r:embed="rId1"/>
          <a:stretch/>
        </p:blipFill>
        <p:spPr>
          <a:xfrm>
            <a:off x="6516720" y="2565360"/>
            <a:ext cx="2371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Хвал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psychiatry"/>
          <p:cNvPicPr/>
          <p:nvPr/>
        </p:nvPicPr>
        <p:blipFill>
          <a:blip r:embed="rId1"/>
          <a:stretch/>
        </p:blipFill>
        <p:spPr>
          <a:xfrm>
            <a:off x="3203640" y="2116080"/>
            <a:ext cx="4753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5338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р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ре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персон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ансформација 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у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нтитативни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инкопа, сомноленција, сопор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литатив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и по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све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rop%20depersonalization"/>
          <p:cNvPicPr/>
          <p:nvPr/>
        </p:nvPicPr>
        <p:blipFill>
          <a:blip r:embed="rId1"/>
          <a:stretch/>
        </p:blipFill>
        <p:spPr>
          <a:xfrm>
            <a:off x="5867280" y="1844640"/>
            <a:ext cx="289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Квалитативни порем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ир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мент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нов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мрачно 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мнабу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н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86728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125892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227640" y="4221000"/>
            <a:ext cx="1513080" cy="151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умра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на стањ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омнабулиз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Фуг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Хипн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4032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84328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1619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1763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1979640" y="5805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2268360" y="414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1547640" y="530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1"/>
          <p:cNvSpPr/>
          <p:nvPr/>
        </p:nvSpPr>
        <p:spPr>
          <a:xfrm>
            <a:off x="1476360" y="4724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Oval 22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al 23"/>
          <p:cNvSpPr/>
          <p:nvPr/>
        </p:nvSpPr>
        <p:spPr>
          <a:xfrm>
            <a:off x="2771640" y="551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Oval 24"/>
          <p:cNvSpPr/>
          <p:nvPr/>
        </p:nvSpPr>
        <p:spPr>
          <a:xfrm>
            <a:off x="2411280" y="39337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al 25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26"/>
          <p:cNvSpPr/>
          <p:nvPr/>
        </p:nvSpPr>
        <p:spPr>
          <a:xfrm>
            <a:off x="298764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190800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28"/>
          <p:cNvSpPr/>
          <p:nvPr/>
        </p:nvSpPr>
        <p:spPr>
          <a:xfrm>
            <a:off x="17636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835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val 30"/>
          <p:cNvSpPr/>
          <p:nvPr/>
        </p:nvSpPr>
        <p:spPr>
          <a:xfrm>
            <a:off x="327672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2484360" y="5805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2195640" y="587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33"/>
          <p:cNvSpPr/>
          <p:nvPr/>
        </p:nvSpPr>
        <p:spPr>
          <a:xfrm>
            <a:off x="320364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133200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35"/>
          <p:cNvSpPr/>
          <p:nvPr/>
        </p:nvSpPr>
        <p:spPr>
          <a:xfrm>
            <a:off x="2124000" y="558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2700360" y="57340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2411280" y="558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320364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2987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133200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2987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42"/>
          <p:cNvSpPr/>
          <p:nvPr/>
        </p:nvSpPr>
        <p:spPr>
          <a:xfrm>
            <a:off x="212400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43"/>
          <p:cNvSpPr/>
          <p:nvPr/>
        </p:nvSpPr>
        <p:spPr>
          <a:xfrm>
            <a:off x="1547640" y="551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4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45"/>
          <p:cNvSpPr/>
          <p:nvPr/>
        </p:nvSpPr>
        <p:spPr>
          <a:xfrm>
            <a:off x="3203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90000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Пом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ења свести                                          С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же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ња све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1763640" y="465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50"/>
          <p:cNvSpPr/>
          <p:nvPr/>
        </p:nvSpPr>
        <p:spPr>
          <a:xfrm>
            <a:off x="183528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51"/>
          <p:cNvSpPr/>
          <p:nvPr/>
        </p:nvSpPr>
        <p:spPr>
          <a:xfrm>
            <a:off x="305928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1835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61928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55"/>
          <p:cNvSpPr/>
          <p:nvPr/>
        </p:nvSpPr>
        <p:spPr>
          <a:xfrm>
            <a:off x="2843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56"/>
          <p:cNvSpPr/>
          <p:nvPr/>
        </p:nvSpPr>
        <p:spPr>
          <a:xfrm>
            <a:off x="3059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4920" y="1557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усмеравања и о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ређеној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н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од интерес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ВИГИЛНО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усмеравање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са једне на другу информац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ЕНАЦИТЕ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за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информацији колико је то временски за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 задата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" descr="attention"/>
          <p:cNvPicPr/>
          <p:nvPr/>
        </p:nvPicPr>
        <p:blipFill>
          <a:blip r:embed="rId1"/>
          <a:stretch/>
        </p:blipFill>
        <p:spPr>
          <a:xfrm>
            <a:off x="250920" y="3500280"/>
            <a:ext cx="1946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сивна пажња (невољна) – одвија се аутомат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ира је информација која се намеће опажајној сф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ка драж, нагли прекид дражи, контраст између дражи и дру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а пажња (вољна) – покретач: жеља, свесна вољна од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нифестација во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зана са: интересима, мотивацијом, организ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им пажње – способност запажања међусобно неповезаних појединости у кратком временском интерв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ст пажње – ефикасност концентрације у вре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намичка пажња – способност да се у оквиру једне делатности психичка енергија стално помера са једне информације на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1:26:51Z</dcterms:created>
  <dc:creator>Dusan</dc:creator>
  <dc:description/>
  <dc:language>en-US</dc:language>
  <cp:lastModifiedBy>nmuric91@gmail.com</cp:lastModifiedBy>
  <dcterms:modified xsi:type="dcterms:W3CDTF">2020-10-01T11:03:03Z</dcterms:modified>
  <cp:revision>84</cp:revision>
  <dc:subject/>
  <dc:title>OSNOVI PSIHOPATOLOGIJE</dc:title>
</cp:coreProperties>
</file>